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3E1-3ADF-4E46-B37A-07DE610F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769-1178-4A8B-8460-8EF2B5D5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D27-2A23-49B6-93D9-CB46D93F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B87-9193-4838-912F-B19C8A93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BF0C-254B-49FD-ACB3-82470628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02F7-32C8-4D4A-A736-A6A883EA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2B7B-482C-4C2D-9B51-50777A35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5C54-B040-4038-8DBE-6708D548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5F93-8C2F-4424-B810-904A3B52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910A-1AEB-4507-B2D3-3719D853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9452-0284-4161-A86B-AA0B6817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739-BE55-4FEC-8426-F80E19C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C4C3-57BE-40C4-A9C7-A6C606BE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A9B2-FDCE-4295-9F8A-2A2DE42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C121-B91E-4462-9EAC-A07D2F7B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428B-7AA9-4FD8-B743-9EBBE37E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C6D8-6136-41C3-8A01-249E4DEA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09D-8E06-4A4C-A3E6-038F6173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427-FA0C-4328-AC96-2930690A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632-D6E2-49CD-8091-F1A8DFB5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A2D-B251-4C0B-83FA-577466F8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7CF-AB23-4AB7-B1B6-E423CA68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0B6-4DC6-4133-99F1-E1CE3256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463-C961-4647-8EBC-F093CDEC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287C-CC5D-471D-BFF6-B78B600983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EF56-F17F-4529-BE00-21C0501797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8:4 – 9: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74-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’la  10:1-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of Pu’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d Israel 23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tribe of Issach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’ir  10:3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il’e-adite – east of the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d Israel 22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30 sons on 30 colts and controlled 30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; buried in Ka’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turns away again &amp; is delivered to Philis’tines &amp; Am’mo-nites for 18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row and realization of need fo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ick Summary of Gide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ression of the Midia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de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fifth Ju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of Jehovah comes to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overthrows the altar of Ba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musters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gns of the fle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 of 300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umpets, lamps, &amp; pit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Gideon To J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refuses the c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makes an ep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melech murders Gideon’s sons and becomes king at Shec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ble of Jot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t against Abimel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on of Shec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of Abimel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a &amp; J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86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review, review and review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hni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irst judge, delivered Israel from Chushan-rishathaim oppression of 8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for 4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h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livers Israel from Moabite oppression of 18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for 8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amg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ills 600 Philist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bor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Barak delivers Israel from Canaanite (Jabin) oppression of 2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for 4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de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livers Israel from the Midianite oppression of 7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for 4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32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Kills Other Midianite Leaders  8:4-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’phra-im angry for not being called to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gives them credit for their 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 at Suc’coth and Pen-u’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slays Ze’bah &amp; Zal-mun’na, kings of Mid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asks Gideon to rule ove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: “God Shall Rule Over You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9724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438280" y="765000"/>
            <a:ext cx="6705720" cy="5612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3520" y="1600200"/>
            <a:ext cx="13716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47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phod Becomes An Item of Worship – 8:24-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made an ephod of gold  v24-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played the harlot after it  v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lso a snare to Gideon  v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e for 40 years  v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had many wives &amp; 70 sons  v29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bim’e-lech was a son of a concubine  v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died; buried in Oph’rah  v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turns again to serve Ba’a-l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failed to show kindness to Gide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Kills Other Midianite Lea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572000" cy="3543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ccoth – Today Tell Deir A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Fords of Jabbok from north"/>
          <p:cNvPicPr/>
          <p:nvPr/>
        </p:nvPicPr>
        <p:blipFill>
          <a:blip r:embed="rId2"/>
          <a:stretch/>
        </p:blipFill>
        <p:spPr>
          <a:xfrm>
            <a:off x="4724280" y="1219320"/>
            <a:ext cx="4419720" cy="3504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248520" y="5029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n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imelech  9:1-5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God-appointed ju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lf-appointed, wicked leader  v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lls his half-brothers, except Jo’tham  v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agreement with the men of She’chem  v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’tham reproved the men of She’che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7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l spirit came between A-bim’e-lech and She’chem  v22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’al challenged A-bim’e-lech  v26-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’bul sends word to Abimelech of Ga’al’s revolt v30-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melech attacks She’chem  v34-4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, he tries to burn the tower of The’bez  v50-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throws down a millstone and cracks his skull  v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sks a servant to finish him off  v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’tham’s curse came upon A-bim’e-lech and the city of She’chem  v55-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imelech  9:1-5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02:32:35Z</dcterms:created>
  <dc:creator>Terry W. Benton</dc:creator>
  <dc:description/>
  <dc:language>en-US</dc:language>
  <cp:lastModifiedBy>Frank D Vines</cp:lastModifiedBy>
  <dcterms:modified xsi:type="dcterms:W3CDTF">2005-02-13T14:26:28Z</dcterms:modified>
  <cp:revision>15</cp:revision>
  <dc:subject/>
  <dc:title>In The Days of The Judges</dc:title>
</cp:coreProperties>
</file>